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4E0-8DE3-419C-A2CB-689E9990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5D6-D136-4901-810C-FA1FDC31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7D1-0D84-4B47-92BA-915BEC89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C8C-543D-4A6B-8C7A-9DF8D573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38EF-4426-421B-9AB2-0C43AB33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5880-5C96-4394-8AB6-451F1BCB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657E-51FC-4874-9C89-0513A730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D34A-BBF3-4C14-B2CC-F2510CF9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FD3A-F1BB-49D9-AA95-A56DDC02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7951-EF22-4964-805F-9E90CC4A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AF9B-8134-4339-99C5-0C07B6F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A59-045A-4245-A85A-AB2DA000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2ACC-45CB-472C-AD07-D37FF22B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1672-B0D7-4FC0-85E7-398D2878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DF54-3A13-42C5-A66F-A6CC7967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75C0-E676-4A53-B158-7B37E48F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54A0-00A9-4D70-95A2-53FC25B5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4CB5C-2A32-4D91-942F-8EE1CE12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AEA7-CD2A-4CF4-9544-64FCE2B3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E9CC-316E-4465-8288-983724A3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D4B63-82EC-4731-9C35-2BB416C7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9ADB-D1D1-497A-9587-237FD2CC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5E3-1EC5-42E0-89B1-45BC4A6E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55BA-1AC9-40AD-95C8-EF342681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09A9-B55D-4155-AD53-E6527A10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CC9BD-05C9-4973-A936-03290292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8D5F-D038-49FD-9938-4C35BF2B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0C055-1133-4520-82DF-A4B3D212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F9FB-0B80-4BF4-A689-8D1D4525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C2F3-E5C6-4982-9B70-6450A815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3E77B-A2B5-4798-BACB-F63DCAA3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F546-A12C-4519-A98B-E217AEA4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BBF2D-6D71-4756-801A-F8D98C2E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706-48A9-4984-9EAE-41A0FF40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F927C-4D2E-4E2E-A6BD-EDCE58DE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73456-6939-451C-AC63-CD122E71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3963C-250B-485C-B929-7F6E20DE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AF42-9A71-49F6-8042-A8E1D047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27A22-C4DF-48CE-A139-319486AB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C72EC-B3A4-4A5E-A727-5DAFC4F3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69FAD-8763-499C-BB6C-96BF26EE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C5AD-03B5-41DD-865A-DC79125D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4845-71A4-44D8-A11A-0CC12257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157-3322-4F28-8F54-E7E86FAA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7E7-950F-4102-AC17-8B360DEC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7C8-5798-47A6-9598-C428A291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87F-16BB-4CA1-9483-F319F225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A92-267E-4AB0-89B0-3EC2CDCD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7CC8-FFE5-4703-85A2-812952A02A69}" type="slidenum"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FBBF-44D7-4B12-B1D6-8ACF26E20A15}" type="slidenum"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A247-631C-4F7B-B254-8F54D1167FF6}" type="slidenum"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6B19-E61A-445D-93F6-4871A6B87204}" type="slidenum"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66640" y="1279440"/>
            <a:ext cx="79376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500" spc="-1" strike="noStrike">
                <a:solidFill>
                  <a:srgbClr val="04617b"/>
                </a:solidFill>
                <a:latin typeface="Calibri"/>
              </a:rPr>
              <a:t>EL SUJETO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La estructura de la oración está conformada por dos elementos fundamentales, que son: </a:t>
            </a:r>
            <a:r>
              <a:rPr b="1" lang="es-PE" sz="2600" spc="-1" strike="noStrike">
                <a:solidFill>
                  <a:srgbClr val="000000"/>
                </a:solidFill>
                <a:latin typeface="Constantia"/>
              </a:rPr>
              <a:t>sujeto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 y </a:t>
            </a:r>
            <a:r>
              <a:rPr b="1" lang="es-PE" sz="2600" spc="-1" strike="noStrike">
                <a:solidFill>
                  <a:srgbClr val="000000"/>
                </a:solidFill>
                <a:latin typeface="Constantia"/>
              </a:rPr>
              <a:t>predicado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PE" sz="2600" spc="-1" strike="noStrike">
                <a:solidFill>
                  <a:srgbClr val="000000"/>
                </a:solidFill>
                <a:latin typeface="Constantia"/>
              </a:rPr>
              <a:t>sujeto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 es la parte de la oración que nos indica de quién se hab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PE" sz="2600" spc="-1" strike="noStrike">
                <a:solidFill>
                  <a:srgbClr val="000000"/>
                </a:solidFill>
                <a:latin typeface="Constantia"/>
              </a:rPr>
              <a:t>predicado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 es la parte que se relaciona con lo que se dice del suje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Constantia"/>
              </a:rPr>
              <a:t>Mi hermano</a:t>
            </a:r>
            <a:r>
              <a:rPr b="1" lang="es-PE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PE" sz="3200" spc="-1" strike="noStrike">
                <a:solidFill>
                  <a:srgbClr val="0f6fc6"/>
                </a:solidFill>
                <a:latin typeface="Constantia"/>
              </a:rPr>
              <a:t>juega a la pelo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4617b"/>
                </a:solidFill>
                <a:latin typeface="Calibri"/>
              </a:rPr>
              <a:t>Estructura del sujeto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6868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Núcleo del sujeto: Es un sustantiv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Modificador  directo: Puede ser un artículo o sustantiv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ff0000"/>
                </a:solidFill>
                <a:latin typeface="Constantia"/>
              </a:rPr>
              <a:t>El</a:t>
            </a:r>
            <a:r>
              <a:rPr b="1" lang="es-PE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gato mue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Modificador Indirecto: Va acompañado de una preposició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l carro </a:t>
            </a:r>
            <a:r>
              <a:rPr b="1" lang="es-PE" sz="2600" spc="-1" strike="noStrike">
                <a:solidFill>
                  <a:srgbClr val="7030a0"/>
                </a:solidFill>
                <a:latin typeface="Constantia"/>
              </a:rPr>
              <a:t>de mi papá 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s viej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Aposición: Es la explicación de lo antes mencion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Andrés  avelino Cáceres, </a:t>
            </a:r>
            <a:r>
              <a:rPr b="1" lang="es-PE" sz="2600" spc="-1" strike="noStrike">
                <a:solidFill>
                  <a:srgbClr val="0b5395"/>
                </a:solidFill>
                <a:latin typeface="Constantia"/>
              </a:rPr>
              <a:t>el brujo de los Andes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, fue hábi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4617b"/>
                </a:solidFill>
                <a:latin typeface="Calibri"/>
              </a:rPr>
              <a:t>Estructura del predicado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85840" y="1935000"/>
            <a:ext cx="88581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Núcleo del predicado: Es un verb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Objeto  directo: Utiliza la pregunta ¿Qué? o pronombre l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Miguel come </a:t>
            </a:r>
            <a:r>
              <a:rPr b="1" lang="es-PE" sz="2800" spc="-1" strike="noStrike">
                <a:solidFill>
                  <a:srgbClr val="0c9b74"/>
                </a:solidFill>
                <a:latin typeface="Constantia"/>
              </a:rPr>
              <a:t>cevich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Objeto Indirecto: Utiliza la pregunta ¿ A quién? o pronombre le o 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La profesora llamó la atención </a:t>
            </a:r>
            <a:r>
              <a:rPr b="1" lang="es-PE" sz="2800" spc="-1" strike="noStrike">
                <a:solidFill>
                  <a:srgbClr val="0b5395"/>
                </a:solidFill>
                <a:latin typeface="Constantia"/>
              </a:rPr>
              <a:t>a Juan.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7:00:00Z</dcterms:created>
  <dc:creator>Computo</dc:creator>
  <dc:description/>
  <dc:language>en-US</dc:language>
  <cp:lastModifiedBy>Computo</cp:lastModifiedBy>
  <dcterms:modified xsi:type="dcterms:W3CDTF">2009-11-10T20:53:39Z</dcterms:modified>
  <cp:revision>4</cp:revision>
  <dc:subject/>
  <dc:title>LA ORACIÓN: SUJETO Y PREDICADO</dc:title>
</cp:coreProperties>
</file>